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AA4C9A-FD97-4DA8-AD46-6FD0B4DECA2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7FE-5BD1-48C5-9867-CEDC9B74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B0D-A66B-4B7B-AD3D-A06AA33B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AE4-2111-4DC5-8652-72B16900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917-1771-4FF4-BFBD-EB5E3CDA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AFA-F9EF-42C6-8C60-B19BCDFD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FDB-0E6F-4CEB-A7E0-F8AB10C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EB7-2EEC-413F-9C12-6BEEB0C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911-7BB6-4F24-B1E6-96A09451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8CF-7E7F-4593-B7FB-732B265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4B2-5EB2-4C5D-8051-6EBB956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D88-1E98-4DD4-B365-0D0171A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FEE-6B83-4A63-A261-9CC392F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3A5C39-1CE7-4AAD-9922-40962D91E04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ranjainfo.wikispaces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1247760" cy="35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68360" y="765000"/>
            <a:ext cx="384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Tutorial de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9600" y="1987200"/>
            <a:ext cx="669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menzar a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Entra en la Wiki del curso:</a:t>
            </a: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ea typeface="바탕"/>
                <a:hlinkClick r:id="rId2"/>
              </a:rPr>
              <a:t>http://naranjainfo.wikispaces.co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55640" y="2700360"/>
            <a:ext cx="626436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ándida Gallard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1720" y="615600"/>
            <a:ext cx="41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Identifícate haciendo clic e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ig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303640" cy="180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761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20" y="2906280"/>
            <a:ext cx="83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Abre la página adecuada. Puedes acceder desde el menú de naveg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79600" y="3419640"/>
            <a:ext cx="33796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1095480" cy="43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400" y="11952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d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52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80" y="62064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. Ahora ab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 pág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82868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8323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430560" cy="4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27640" y="3141720"/>
            <a:ext cx="237960" cy="15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82760" cy="43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7720" y="471240"/>
            <a:ext cx="47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Te aparecerá es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barra de 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92436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87440" y="2058480"/>
            <a:ext cx="686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 vamos a utilizarlo para crear enlaces con páginas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s a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texto que aparecerá resaltado co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l lin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1800" y="3278160"/>
            <a:ext cx="108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91760" y="4003560"/>
            <a:ext cx="69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iminar un enlac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Selecciona el texto resaltado y haz clic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7960" y="3357720"/>
            <a:ext cx="21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roduce la UR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6400" cy="47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287640" cy="2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800440" cy="3213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04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400" y="338040"/>
            <a:ext cx="797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imáge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Las imágenes que vamos a insertar pueden proc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dos si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de nuestro ordenado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바탕"/>
              </a:rPr>
              <a:t>:        se te abrirá una ventana como la que ap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바탕"/>
              </a:rPr>
              <a:t>en la imagen inf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960920"/>
            <a:ext cx="8478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eleccionar una imagen de tu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la imagen y 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i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n la venta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parec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a dirección del arch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e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Upload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ubir la imagen y guardarla en tu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doble clic sobre la imagen que deseas insertar en el Wik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484200"/>
            <a:ext cx="8064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algún sitio we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sta vez se trata de una imagen que se encuentra en algún otro servidor y de la que tenemos que copiar su dirección d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ara abrir la ventana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sertar imágenes o arch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358920" cy="27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1555920"/>
            <a:ext cx="7993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crib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ción UR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de la imagen en la caja de text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 un doble clic sobre la imagen la insertarás en e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ómo obtener la dirección URL de un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y algunos sitios de donde obtener imágenes, por ejemplo: Imágenes de Goo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encima de la imagen el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e el menú con  el botón derecho del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 la ruta de l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nuestra Wiki, en la caja de texto inferior haz clic sobre el botón derecho del ratón y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960" cy="41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952720" cy="92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3573360"/>
            <a:ext cx="5400360" cy="308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47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756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un video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s pasos a seguir será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바탕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vídeo de cualquiera de los servicios de Internet como por ejemplo: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 el código html ,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de la caj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, que se encuentra a la derecha del video haciendo clic encima de él y con el botón derecho del ratón 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798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la Wiki, haz clic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720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Seleccio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Other 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que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do en el cuad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text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9600" y="65530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43:13Z</dcterms:created>
  <dc:creator>Candi</dc:creator>
  <dc:description/>
  <dc:language>en-US</dc:language>
  <cp:lastModifiedBy>Candi</cp:lastModifiedBy>
  <dcterms:modified xsi:type="dcterms:W3CDTF">2009-02-11T21:46:04Z</dcterms:modified>
  <cp:revision>9</cp:revision>
  <dc:subject/>
  <dc:title>Diapositiva 1</dc:title>
</cp:coreProperties>
</file>